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5BB-693B-4F0E-B95F-C3A6DDD0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ABC-A0C5-47F7-826E-731963A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618-C553-44EE-847D-027DF38D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53E-7984-4D6E-B728-8CC47D33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38F-2B13-47E1-BCC3-444E0C94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613-1CD4-4720-B54E-A945506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8A4-C9AB-45CD-9A57-3404F0E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D56-6F3B-4E84-AC8C-79C7E01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73F-2E23-4283-B372-3D8C44A7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B4A-6DCD-4355-977E-D0F6B44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767-E275-41FF-90A2-B0B4965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4A5-4C85-4C06-A83E-CFE1934F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8BF3-DF1F-4264-A233-0E44C0900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85800" y="533520"/>
            <a:ext cx="77724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6600" y="601992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680" y="3429000"/>
            <a:ext cx="80010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92504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792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609480" y="38088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5:44:07Z</dcterms:modified>
  <cp:revision>39</cp:revision>
  <dc:subject/>
  <dc:title>PowerPoint Presentation</dc:title>
</cp:coreProperties>
</file>